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76143"/>
        <c:axId val="26203813"/>
      </c:barChart>
      <c:catAx>
        <c:axId val="55976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03813"/>
        <c:crosses val="autoZero"/>
        <c:auto val="1"/>
        <c:lblAlgn val="ctr"/>
        <c:lblOffset val="100"/>
        <c:noMultiLvlLbl val="0"/>
      </c:catAx>
      <c:valAx>
        <c:axId val="26203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76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5C4-EE64-4D9B-B075-11B31532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88B-0034-415D-A9DB-9493A411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4FD-6571-4144-89BD-230EBC2B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AD5-9CF4-489E-85AC-7B2362CA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D8E-AD17-4781-84FA-751A1C7C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BA1-E023-409F-B75F-B3CAF2B9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A78-9E3D-47FC-AB1D-7FF7B6C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822-5AC4-4592-BDA2-53F9BE6E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C41-44DE-4381-991D-8A4BEDAD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DE9-176F-4915-94D8-1B949AEF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88B-03C5-4EF4-A72D-DC3DF06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724-7E00-43F6-822C-DDB02381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14EE6-ABA2-4F0D-B7A7-C8405E66AA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