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02998"/>
        <c:axId val="90764782"/>
      </c:barChart>
      <c:catAx>
        <c:axId val="70802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4782"/>
        <c:crosses val="autoZero"/>
        <c:auto val="1"/>
        <c:lblAlgn val="ctr"/>
        <c:lblOffset val="100"/>
        <c:noMultiLvlLbl val="0"/>
      </c:catAx>
      <c:valAx>
        <c:axId val="90764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02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9BE-13DC-4591-94BB-49B49D0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8A6-B515-4425-8D43-6987EEE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C60-B243-4957-88B7-25EC8975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11E-0700-4D3A-A998-30C8694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FE7-B9D1-41E0-99BF-CF7395A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D4A-9901-42FA-807B-909317E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DA1-BA04-430C-8F1B-2D965319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DE7-5C7C-406D-910B-1E44560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E33-80B3-449E-B163-EE72B1A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2DE-9E85-4686-A77A-3EF2344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4D7-CB5A-47DD-B256-07F82186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A5C-1F1F-45CE-8894-0DBBE9A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EDA2A-C164-4FF5-AC71-1894E8505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