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620780"/>
        <c:axId val="37619465"/>
      </c:barChart>
      <c:catAx>
        <c:axId val="856207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619465"/>
        <c:crosses val="autoZero"/>
        <c:auto val="1"/>
        <c:lblAlgn val="ctr"/>
        <c:lblOffset val="100"/>
        <c:noMultiLvlLbl val="0"/>
      </c:catAx>
      <c:valAx>
        <c:axId val="376194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207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754E-01B2-4D5D-8C2A-BFE72370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37B7-A535-4353-91F8-140065C2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7080-A775-40B7-B43E-59F2F850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0367-FCCE-44BB-9E6F-2F371EE2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ED68-8826-427D-91EE-24E99275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9D75-78C5-41F6-8514-C3408427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7A25-C3F5-43EC-9465-96A194E1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05AC-19F4-4A72-9763-DFE758A0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2E11-7628-4E74-A1A0-A2CB2CC5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8BCB-9BDA-419D-8C15-71AD817A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75F7-6D2F-46DA-B81A-8C979DDE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0B5F-EBCF-4E10-A34B-D0B0E450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F53F5-B2D9-45CF-AFED-221B460493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