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50781"/>
        <c:axId val="42615751"/>
      </c:barChart>
      <c:catAx>
        <c:axId val="19050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15751"/>
        <c:crosses val="autoZero"/>
        <c:auto val="1"/>
        <c:lblAlgn val="ctr"/>
        <c:lblOffset val="100"/>
        <c:noMultiLvlLbl val="0"/>
      </c:catAx>
      <c:valAx>
        <c:axId val="42615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0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911-8D2A-4E60-9288-106B32F2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4A9-2A2A-488C-9A57-3BA829B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7A5-090E-40A2-BFDF-70E58312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36B-AC2C-4BF3-A565-9C395970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7B7-E7B4-4613-9CDF-4DC1E1A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828-CAE0-4FDF-AFFA-4D349128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7FD-851F-4001-883F-D884997E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C74-B656-4D78-A36A-716E541E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913-CA98-4677-B10F-961AB66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5B1-2374-4404-85BC-46E06BDA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3A1-1F64-496B-8881-8164273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260-3638-48D6-B4E3-713C556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20EF3-5FE4-4ABA-9900-B28F27AFCA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