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042717"/>
        <c:axId val="95033694"/>
      </c:barChart>
      <c:catAx>
        <c:axId val="880427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33694"/>
        <c:crosses val="autoZero"/>
        <c:auto val="1"/>
        <c:lblAlgn val="ctr"/>
        <c:lblOffset val="100"/>
        <c:noMultiLvlLbl val="0"/>
      </c:catAx>
      <c:valAx>
        <c:axId val="950336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427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0EA0-BA39-4C6D-B9A9-84378167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CCB-6090-45F2-B7A3-ADD6966D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A697-C8B1-413A-A9CD-C4B4621D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E8FC-0E19-4796-A194-A114D55F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6801-5909-471E-8660-E8769A02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CB83-BE3F-4C74-B927-14AF4F4A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81CA-A8B0-421A-986E-33C40465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06F5-6CC5-44A2-89AD-8D3548AC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7F39-0A7B-4CE3-BB25-BE406266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5E05-7BC2-4642-A0C1-069A379E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5A6A-84EE-4F3B-B6DD-0BFF9434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D148-83F6-4EC2-8319-077533BC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CA40D-F9AB-400F-B491-E3C084643A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