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881783"/>
        <c:axId val="26926823"/>
      </c:barChart>
      <c:catAx>
        <c:axId val="928817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26823"/>
        <c:crosses val="autoZero"/>
        <c:auto val="1"/>
        <c:lblAlgn val="ctr"/>
        <c:lblOffset val="100"/>
        <c:noMultiLvlLbl val="0"/>
      </c:catAx>
      <c:valAx>
        <c:axId val="26926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817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C6A6-EEDB-43CE-BC57-CCA1EAB0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824-DFF5-4724-8186-8B99777E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7963-2EB8-471E-A25D-55E20EAF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0194-58DA-44D2-AC76-024CEAF8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3088-0757-4686-B62D-89A12D74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007B-FEC2-4B07-91B9-CE73D5B5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6298-B97D-47D0-AAAF-FF85E0A6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5DFF-562B-403C-9B49-3269F725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7E09-F01D-4CC4-8E35-0A10C860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342-8BBE-4E1B-B9A8-E86618B0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D04A-01FA-4095-BEA4-4595C26C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011E-A05E-4585-BB6E-983806C7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2324F-86E2-4FC1-AA7B-4C32FBAB74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