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067260"/>
        <c:axId val="57097176"/>
      </c:barChart>
      <c:catAx>
        <c:axId val="950672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097176"/>
        <c:crosses val="autoZero"/>
        <c:auto val="1"/>
        <c:lblAlgn val="ctr"/>
        <c:lblOffset val="100"/>
        <c:noMultiLvlLbl val="0"/>
      </c:catAx>
      <c:valAx>
        <c:axId val="570971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0672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4FCF-22B3-4375-9E77-83806A989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1211-887E-4531-8751-CD4D84812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A034-8FFA-4D7E-A9B2-D8ADEC287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4AE9-50E4-4E0C-A17D-EC9BD9EA1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8ADB-483F-4831-BDC3-60BA2B728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7221-0ADE-4E79-B1E8-6686B5B09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4A06-C820-4444-9FB4-D2BB1B07A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5503-83C4-4966-BF70-365F376AE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C290-97CF-4BDD-987D-8C2457F62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07F4-C7BB-452E-B9E6-91E085853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90A0-FC13-45AC-AE70-ACA33B6D1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D9CB-5478-4B94-B2C3-BB2BA98C9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C75F6F-2AD4-4EBF-AE63-0372AFD08FB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