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5004"/>
        <c:axId val="27235619"/>
      </c:barChart>
      <c:catAx>
        <c:axId val="2251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5619"/>
        <c:crosses val="autoZero"/>
        <c:auto val="1"/>
        <c:lblAlgn val="ctr"/>
        <c:lblOffset val="100"/>
        <c:noMultiLvlLbl val="0"/>
      </c:catAx>
      <c:valAx>
        <c:axId val="27235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5A2-DE00-4831-8018-2EFA71CE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B77-C48C-499A-B72C-29DA024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065-F028-401A-B12A-74F0188C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68B-C26D-41CC-9FEB-6889956D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E6A-CC7E-429B-9E86-8166990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BD8-FF1F-4C18-BB99-0164917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E77-ADA6-42C2-83AE-E6CBDA5B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03A-1C46-4978-BECC-0A84D6A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697-19A5-4542-AEDC-12D0140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AF1-5E89-494E-8B34-75D4960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408-D081-49E7-9A35-1F8BAA4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6E7-EB98-4F00-B59E-A1F0D118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C5F3-AA17-4553-9EF6-8161F3C345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