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76155"/>
        <c:axId val="72074673"/>
      </c:barChart>
      <c:catAx>
        <c:axId val="16676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74673"/>
        <c:crosses val="autoZero"/>
        <c:auto val="1"/>
        <c:lblAlgn val="ctr"/>
        <c:lblOffset val="100"/>
        <c:noMultiLvlLbl val="0"/>
      </c:catAx>
      <c:valAx>
        <c:axId val="72074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76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000D-6CC6-4FD7-BF40-2CD38A38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B26-1E01-4E7D-B351-048EDA36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D4A-94ED-4269-95D2-C5581920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D47-56F0-453D-A2F9-081FDD09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F42-5A68-4575-839C-B0FC145C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2E5-BA33-4725-81AE-144F8686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5B6-1E76-4711-AC09-02FD2827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A01E-AB6E-4CC5-8D14-14145FBA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4DAE-2549-4016-9826-5885CCAD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2D3-00B7-4A8F-9C4C-777C034D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229-5C51-40D3-992A-4D0E97C0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41F-6CC4-4D62-B9C8-303326F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9E54B-F616-418C-8DBD-2F17B648FE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