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534417"/>
        <c:axId val="32595447"/>
      </c:barChart>
      <c:catAx>
        <c:axId val="253441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595447"/>
        <c:crosses val="autoZero"/>
        <c:auto val="1"/>
        <c:lblAlgn val="ctr"/>
        <c:lblOffset val="100"/>
        <c:noMultiLvlLbl val="0"/>
      </c:catAx>
      <c:valAx>
        <c:axId val="3259544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3441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5075-9CE9-470A-AC05-D4F20131E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0588-78B6-4ED6-8294-75FEAB78F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FED7-1B10-436C-814A-98F58C607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16B6-BBC9-4E20-A360-F5562EDA1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535E-892B-43BA-8B8C-0FCCB3988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C08A-25A4-4470-80C0-D8B86E743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82B5-724E-46E2-8015-1E76B85F2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6A02-29AB-4C23-B331-9C21FF75E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1557-3E27-4CC4-950A-F5DCB8AC0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13F8-3999-425A-B3D5-494AB033B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D403-6D2F-43AA-84F1-48C225276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9081-52A0-4BC9-885A-0ED990E42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400FC1-A615-46DC-A2D3-67B558BD3A6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