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9933"/>
        <c:axId val="28018926"/>
      </c:barChart>
      <c:catAx>
        <c:axId val="8139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18926"/>
        <c:crosses val="autoZero"/>
        <c:auto val="1"/>
        <c:lblAlgn val="ctr"/>
        <c:lblOffset val="100"/>
        <c:noMultiLvlLbl val="0"/>
      </c:catAx>
      <c:valAx>
        <c:axId val="28018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9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520-1DEE-4C12-95C7-EDB1AE73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071-90AA-4805-814C-6BA340CB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9EC-C26C-46EC-B158-8F753F33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397-FEBD-4663-9166-4337729F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68A-4A86-452C-8777-C9F06960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7D3-578D-4785-8BA2-EB0E8AAF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32B-8D53-4D43-9E86-C686F90B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FB1-EF1C-4FF9-ABD5-F2C342FA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E4A-E483-4E87-AF18-E639E826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BC0-0D58-494A-BFB6-7F249C5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0E1-9300-4D30-85B6-0C1431E4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1AC-7ACF-45DE-B4B5-15E454C5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DEC8C-26C3-49E7-BE0A-3BE8C4FEF2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