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34439"/>
        <c:axId val="87981734"/>
      </c:barChart>
      <c:catAx>
        <c:axId val="88334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1734"/>
        <c:crosses val="autoZero"/>
        <c:auto val="1"/>
        <c:lblAlgn val="ctr"/>
        <c:lblOffset val="100"/>
        <c:noMultiLvlLbl val="0"/>
      </c:catAx>
      <c:valAx>
        <c:axId val="87981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34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0D9-6ED4-45AA-8C2D-0ACDE684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18A-1DA2-4BA9-88CA-D84376CB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E61-A234-40B8-A2DE-85C7A11E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E05-7F9A-4194-87A1-71C69DD1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9E4-EAED-4391-AADA-A8796849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0B2-4D2C-4E15-BA13-CADA295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5AD-A3E6-4497-B400-0BEA2FA6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627-1A97-4660-A22F-6CA1A646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3B9-8689-4F0B-8E9C-5E1AEBB3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9CC-4B1E-4191-A855-AD05D1D5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6ED-56E9-4D43-B952-87E119C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C89-52EC-4ADE-B448-3A3CAD9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6C918-0D79-4DE1-8975-BF9237227B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