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69176"/>
        <c:axId val="88640149"/>
      </c:barChart>
      <c:catAx>
        <c:axId val="38869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40149"/>
        <c:crosses val="autoZero"/>
        <c:auto val="1"/>
        <c:lblAlgn val="ctr"/>
        <c:lblOffset val="100"/>
        <c:noMultiLvlLbl val="0"/>
      </c:catAx>
      <c:valAx>
        <c:axId val="88640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9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8BA-11F5-4350-8C33-4C721111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967-91D7-41F7-9352-E4825C30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03B-75D4-44A3-9FF1-67D6CB55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097-4892-4EC5-B9C4-9B77CF04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AC7-0F29-486F-AC22-C531FF4F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8D3-E36F-467E-9918-76FA23A6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4E5-473B-4260-8755-2B3438C5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EAD-94FB-4086-9067-B3A90D6C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730-8E2E-4BBD-A357-EFF8574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A7D-7D40-4C22-83AA-2F5EC4A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598-DBB5-4102-8A2F-8D566FB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9BC-4EEA-4A1B-BF02-994DA9BF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C0A2C-CEA4-4D12-894A-7B73FB5DE1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