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57232"/>
        <c:axId val="29430678"/>
      </c:barChart>
      <c:catAx>
        <c:axId val="49557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30678"/>
        <c:crosses val="autoZero"/>
        <c:auto val="1"/>
        <c:lblAlgn val="ctr"/>
        <c:lblOffset val="100"/>
        <c:noMultiLvlLbl val="0"/>
      </c:catAx>
      <c:valAx>
        <c:axId val="29430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57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76F5-C266-4250-AF31-754FB02B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8BB-8F02-4830-B423-54535080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2CC-65C6-4059-B38F-21E808BD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DE1-2824-4339-88BF-C98CF069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FC2-5E0D-4DA1-B84F-F9966E9C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82A-FB36-45C0-BB3C-7F2D642D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CC50-7FA7-4AAE-8F14-59204EC9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704-4FFB-4A16-B1B3-3C6C60B8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377-EEE7-4D67-9B91-92043CF6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A600-D1AB-492F-A146-3A100428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6B3-A59D-48F7-8C03-E016A80B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7EC-C256-406E-B879-3AFB68BD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B389D-4B0D-49B6-A447-2BC4E69176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