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13869"/>
        <c:axId val="54402819"/>
      </c:barChart>
      <c:catAx>
        <c:axId val="63813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2819"/>
        <c:crosses val="autoZero"/>
        <c:auto val="1"/>
        <c:lblAlgn val="ctr"/>
        <c:lblOffset val="100"/>
        <c:noMultiLvlLbl val="0"/>
      </c:catAx>
      <c:valAx>
        <c:axId val="54402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13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95F-4AE8-4810-A60D-8926BD41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74D-74C5-4458-A461-1A2D9588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14F-750D-469E-9BE4-B43F99A9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D2DA-9022-426F-8C26-1A2EE18D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6C6-F81D-460C-80CB-6973213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73B-2330-4D02-BDD7-6ABDC4D0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DBA-9933-42FA-8B23-C22EB8B3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94D-13ED-4E54-99D5-18172670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333-211A-4C54-A4E1-61F306BF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7C7-6061-4386-8E5C-B18DCC1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3D1-7B65-4C1E-81F3-1F53AE8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0AC-CF4C-448B-ABC1-D7CB4B8A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FEC6D-30C9-4349-A885-D1AD9CF20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