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80982"/>
        <c:axId val="14854137"/>
      </c:barChart>
      <c:catAx>
        <c:axId val="19880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4137"/>
        <c:crosses val="autoZero"/>
        <c:auto val="1"/>
        <c:lblAlgn val="ctr"/>
        <c:lblOffset val="100"/>
        <c:noMultiLvlLbl val="0"/>
      </c:catAx>
      <c:valAx>
        <c:axId val="14854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80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623-EEC2-467D-B00C-9C16A66A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903-242E-421A-817B-078DD97E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691-20D5-45E5-922B-0F0BAA04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927-72AD-4C1C-A157-9DABB169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9FD-A011-42E6-B73C-A6C8D7A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EA9-B641-486E-9251-E3CDEFA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204-4287-46A2-BAC8-9DFC88D9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BD6-BDC1-46B9-B373-6058A38F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AB5-8721-4BA2-8266-BB240D0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CB7-5942-4CFA-834D-8515FF1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257-5D36-42AA-A334-BBAE882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A1F-6AA1-4FF9-904D-7B45690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E4429-5ACC-4615-8797-09A9B95AAB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