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62254"/>
        <c:axId val="1145722"/>
      </c:barChart>
      <c:catAx>
        <c:axId val="91562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5722"/>
        <c:crosses val="autoZero"/>
        <c:auto val="1"/>
        <c:lblAlgn val="ctr"/>
        <c:lblOffset val="100"/>
        <c:noMultiLvlLbl val="0"/>
      </c:catAx>
      <c:valAx>
        <c:axId val="1145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62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A8D-EB3C-4B1A-97D9-D7FAA91D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9CE-BD52-4CE0-BA12-3C8DA6D7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B1F-7C37-45EA-A4CE-AA48BDD6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ECD-A8D4-453B-A760-CCBB1002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936-8859-498E-B96B-DEE0C17A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DDE-67FC-462C-9DC3-0D869287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018-09F3-4C9E-9A8D-1C004833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216-CFE4-456F-99DB-C4595A89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AB8-9E83-4986-9784-FFDCE071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EF2-1688-4E34-B879-1C171843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B13-276A-44E7-8B8C-CB7B19F3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2B5-AEC7-4A67-B826-F9FAEA21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D0C12-4130-40AA-A7ED-37CB5CA0B8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