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63364"/>
        <c:axId val="89458283"/>
      </c:barChart>
      <c:catAx>
        <c:axId val="57263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58283"/>
        <c:crosses val="autoZero"/>
        <c:auto val="1"/>
        <c:lblAlgn val="ctr"/>
        <c:lblOffset val="100"/>
        <c:noMultiLvlLbl val="0"/>
      </c:catAx>
      <c:valAx>
        <c:axId val="89458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63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C8E7-3709-4F87-A571-33C13741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5E1-EE4F-48AA-A3C5-97AA77F0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090C-DB06-41C2-9098-C6934C6C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423-E55F-4C59-987C-6FE4DD16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C79-B03B-4B2A-AEBE-52A56910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0E9E-F51C-422D-854B-FCDECF7E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50F-F110-41EC-B7B4-98056E57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1F67-4383-48FD-A9A9-7253045D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7DB-46CB-46DB-9EBC-828F1285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0D4-5A3F-4F72-A707-B76437A5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182-C4F3-4524-B81D-463F0FD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93B4-B7CB-4D59-BE83-EE33BB1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8F01C-BDF1-4F7B-8127-BDECDDC353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