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176030"/>
        <c:axId val="18523168"/>
      </c:barChart>
      <c:catAx>
        <c:axId val="481760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523168"/>
        <c:crosses val="autoZero"/>
        <c:auto val="1"/>
        <c:lblAlgn val="ctr"/>
        <c:lblOffset val="100"/>
        <c:noMultiLvlLbl val="0"/>
      </c:catAx>
      <c:valAx>
        <c:axId val="185231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1760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B903-F895-4F14-8347-507580C17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C715-018E-476C-8C5A-561974AB6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FAFF-E6C2-4C0B-B6FC-D01002977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9E07-C929-43D7-8307-AD3782289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348E-F5E0-4067-BB6D-872564098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0599-4B6E-4AFD-B726-C843D199F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D5E1-CE5A-4C4D-8616-7D3EF720C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DCEB-E537-4066-A512-FBE4E82FC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4528-0604-4F86-BA1A-EC6B918D9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DA98-B21F-4378-8324-938DDA61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376E-C3C5-4F62-9296-3FEFCABA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FBF9-AC27-431D-AFE3-419241FA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A70DAD-422D-40E0-A90A-55A1BE8BBFC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