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4865"/>
        <c:axId val="66367650"/>
      </c:barChart>
      <c:catAx>
        <c:axId val="8194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67650"/>
        <c:crosses val="autoZero"/>
        <c:auto val="1"/>
        <c:lblAlgn val="ctr"/>
        <c:lblOffset val="100"/>
        <c:noMultiLvlLbl val="0"/>
      </c:catAx>
      <c:valAx>
        <c:axId val="66367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4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EAA-C687-48D1-B28A-61C19736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A54-0336-4C90-B6D5-F5509FC1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7F6-18B5-4923-99E1-1F7CE8CA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D3A-5E84-4481-857C-A8174B37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D25-BD22-41A3-A351-2EE15C94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349-18DE-4709-BF5F-EC93F4A2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D8C-8F55-4363-B31D-836F0B05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B3C-FE6A-45A1-BDB4-5A3355B0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24B-5EE6-4576-9C2E-1A0C969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699-9D30-4C66-BD9B-205CC19B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F82-EEB1-4896-B24D-135A946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65C-A467-492E-83BA-DF9D0D87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BB2F3-868F-4987-90FD-5B2FF3099A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