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80601"/>
        <c:axId val="86369665"/>
      </c:barChart>
      <c:catAx>
        <c:axId val="58780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9665"/>
        <c:crosses val="autoZero"/>
        <c:auto val="1"/>
        <c:lblAlgn val="ctr"/>
        <c:lblOffset val="100"/>
        <c:noMultiLvlLbl val="0"/>
      </c:catAx>
      <c:valAx>
        <c:axId val="86369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80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084-D776-4A82-B811-1599BC1F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DE9-E9EA-4421-B1AC-A2A100DC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943-EBBE-4FF0-BD84-2B4AE26F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9B6-4836-41C4-ADB7-EEEFD4D4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A82-DE96-41E5-9839-672F096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B29-F5B2-4494-9F62-CCB0F5B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955-1DA6-4EE0-8675-DEAA2A2E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3D8-FD93-4763-8C3F-4DC4F760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9FE-044D-40B2-B8B3-45EB9C4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FCC-5083-4164-8EB0-1154F578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BB3-8124-4443-822B-1C13057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853-1126-4ADC-AB9C-F53571F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15CD8-3EC5-4095-9909-BA44D676C9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