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779126"/>
        <c:axId val="54015390"/>
      </c:barChart>
      <c:catAx>
        <c:axId val="347791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015390"/>
        <c:crosses val="autoZero"/>
        <c:auto val="1"/>
        <c:lblAlgn val="ctr"/>
        <c:lblOffset val="100"/>
        <c:noMultiLvlLbl val="0"/>
      </c:catAx>
      <c:valAx>
        <c:axId val="540153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7791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BCBB-8BE1-4CC0-8F66-07F18251E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BC31-256B-4D62-B122-782478232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903D-9689-448A-AD2D-69E5E4E01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AE22-0D8A-4DA6-AB07-A2EF4C132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B3CB-496B-4278-9B44-5A661865E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01A7-4B0C-49F5-B000-AF9E4C603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398B-D953-4DB0-B985-16D512E77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A23D-29A8-4B5A-A7C2-C81FBDDE7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8D06-8741-43DC-8FCD-3187F8E8C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C5F4-8E59-4240-8E55-95769463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AC19-AED2-4B16-893A-EA73F2C4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0111-6BBB-443C-ADC3-DFD0B7826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6B9B1E-07CF-49F2-93AE-D60E2EA5BAB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