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248219"/>
        <c:axId val="82017894"/>
      </c:barChart>
      <c:catAx>
        <c:axId val="552482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17894"/>
        <c:crosses val="autoZero"/>
        <c:auto val="1"/>
        <c:lblAlgn val="ctr"/>
        <c:lblOffset val="100"/>
        <c:noMultiLvlLbl val="0"/>
      </c:catAx>
      <c:valAx>
        <c:axId val="820178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2482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D2EF-AEC3-4018-8761-9776AD9B0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9398-886B-4553-AD93-C5C57CDE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C3B8-2CC4-428E-8C21-A027B9756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0EC9-A5CC-42E0-BD8C-AE625E4D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7A40-29BD-40D6-9EBD-1DAE6225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57F6-3234-4AF2-967C-B6CD5104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8B1E-71F4-42D5-8D78-11DF3329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AB51-581B-4335-9824-E308F6A8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EBD7-BDB5-4B05-92C2-939EFD6D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504D-722A-4133-A406-5F0DF58B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7828-C69A-4420-92D7-2BB9C1C6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D672-A6B7-400E-9D4E-EC0A40AC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4C6EE-3BFA-43E9-BF41-B8A06C8C48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