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54464"/>
        <c:axId val="39095206"/>
      </c:barChart>
      <c:catAx>
        <c:axId val="50454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95206"/>
        <c:crosses val="autoZero"/>
        <c:auto val="1"/>
        <c:lblAlgn val="ctr"/>
        <c:lblOffset val="100"/>
        <c:noMultiLvlLbl val="0"/>
      </c:catAx>
      <c:valAx>
        <c:axId val="39095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54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82F-3F2D-4B6B-BF4F-DB8956A5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C34-677D-434B-9ACE-795BBBF3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4A8-DC05-4B22-A680-CCF1C4C3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FE7-F529-4157-85CE-8FFC4831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8B3-211C-4E6F-BAAE-E320B6E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324-EEA4-436A-ADDB-0BCC2424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B11-2711-4695-B697-1D40617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A5B-60BD-49B7-AEDC-149C88B7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6AE-E38F-4E93-A152-B2D3C144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DD3-3E6D-4DE5-B747-AE0A469A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236-F93B-4C9E-A3CC-288ECF5B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278-AEF3-4305-9587-DCE177A6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9B8FC-3109-4388-9CAA-A3EE20E970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