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09125"/>
        <c:axId val="86544421"/>
      </c:barChart>
      <c:catAx>
        <c:axId val="95709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44421"/>
        <c:crosses val="autoZero"/>
        <c:auto val="1"/>
        <c:lblAlgn val="ctr"/>
        <c:lblOffset val="100"/>
        <c:noMultiLvlLbl val="0"/>
      </c:catAx>
      <c:valAx>
        <c:axId val="86544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09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C18-84B7-4C18-9DEF-2871D6D5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331-DCEF-4E23-BED6-9F81C140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D06-44A6-4746-9968-088EE8B9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3F1-44EB-49B0-8F34-E2636FEE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79C-2A4D-4771-81E7-F1EB2DC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9B0-440D-42F0-A789-472CF76F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8ED-CF36-48D3-8F89-6B7D1CA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C61-5BD5-48F3-A3F8-BDDEA989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B1E-BC58-494A-AE9C-0DD6E540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4BD-3065-4766-A9A5-D315F020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0C1-402A-40D7-977E-CBACCC2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A72-FB0D-47BC-88A6-2800C759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98A4A-D711-4F58-90AE-BC258E0FDA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