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23340"/>
        <c:axId val="20346088"/>
      </c:barChart>
      <c:catAx>
        <c:axId val="80233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46088"/>
        <c:crosses val="autoZero"/>
        <c:auto val="1"/>
        <c:lblAlgn val="ctr"/>
        <c:lblOffset val="100"/>
        <c:noMultiLvlLbl val="0"/>
      </c:catAx>
      <c:valAx>
        <c:axId val="203460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233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3506-86E1-4262-9F79-5C67D0A52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24BE-F28E-4AE0-B38E-261FBE00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70D0-620B-4B92-A7E1-3E622DAF2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221D-8DC5-4260-ABB3-7DDD7DCB6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AB81-FE2C-4792-B44F-B9970BC0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923F-9E6D-42E5-A1E7-264715A1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DB7D-F1DB-4419-9670-9EABE526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14FD-AE9E-412D-B3CA-E7955E9F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9A76-C21D-493A-ADC1-9DDF925A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C088-BEF6-42A9-B41A-2D3DF24C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8955-9819-4F83-B797-8DA355DA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27DC-D5F6-4C8B-954B-40A7BAC2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83F18-C162-4C77-83BB-6D35EF8387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