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739188"/>
        <c:axId val="86322056"/>
      </c:barChart>
      <c:catAx>
        <c:axId val="617391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322056"/>
        <c:crosses val="autoZero"/>
        <c:auto val="1"/>
        <c:lblAlgn val="ctr"/>
        <c:lblOffset val="100"/>
        <c:noMultiLvlLbl val="0"/>
      </c:catAx>
      <c:valAx>
        <c:axId val="863220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7391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4D48-5423-43A7-AFF9-8360886AE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F5FD-BF72-4082-91CC-BDA180DF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7091-2B8D-4DDE-98CF-8A5AFC154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2AD6-6BB8-4678-BAAA-481E94B57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D03D-BFD1-493D-A67D-8C7235CD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9312-F2AB-4052-B202-8A0B78AE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B2D4-3F00-4536-8111-6FF06480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9326-B121-45A8-9D5C-BF643BC5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3397-4E98-4915-A871-53BE5A35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D2FB-FC97-4B5A-BD60-B9DB2D73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079B-4227-427F-A7EC-8ABA58DC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2BAA-795E-4630-A374-0CBB4BD2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AB415-BB8E-4D6E-B6FD-0158D3F032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