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23856"/>
        <c:axId val="25656428"/>
      </c:barChart>
      <c:catAx>
        <c:axId val="3572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6428"/>
        <c:crosses val="autoZero"/>
        <c:auto val="1"/>
        <c:lblAlgn val="ctr"/>
        <c:lblOffset val="100"/>
        <c:noMultiLvlLbl val="0"/>
      </c:catAx>
      <c:valAx>
        <c:axId val="25656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2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E45-1DFD-43FD-AAF5-413544F2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6E9-82E2-4466-87EB-F92BEA8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D55-6321-49D0-B045-3DF55A99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279-E43A-4E84-8314-70CF4426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60F-7A69-40D1-8F11-776678C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0B8-5885-4ECB-9183-7B79EB79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22C-F494-4143-98D2-00760AB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480-9ABF-48BC-8B92-AD515412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0FA-85DE-4EC5-B862-3020ED3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64C-4B23-4800-BB14-DBDD659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B70-BA22-466D-9104-B59152D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F8C-0D9B-41F4-96DB-77F3CEF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D8383-A958-4148-81B0-C52FFF26C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