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4306"/>
        <c:axId val="25826028"/>
      </c:barChart>
      <c:catAx>
        <c:axId val="76014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6028"/>
        <c:crosses val="autoZero"/>
        <c:auto val="1"/>
        <c:lblAlgn val="ctr"/>
        <c:lblOffset val="100"/>
        <c:noMultiLvlLbl val="0"/>
      </c:catAx>
      <c:valAx>
        <c:axId val="25826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4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0EB-334F-488A-8C4C-1B1B32CD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0AD-9FDB-4EF3-8A13-3EB7FFE9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84A-2F61-4BAD-9C24-F88F9FD1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F25-90A6-4C94-9C05-5E5EE364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72F-A7A3-4718-B58C-1AE9A33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3CD-F96E-4DA6-AC6E-4E95FF7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1B4-AEB4-4B8A-88EF-F031975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1D9-94BC-4D6C-BA55-D7A8C907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54A-1E71-47BB-8AFA-D1DF626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762-488A-4EB5-B2AA-EFE339EB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73F-6598-4470-B3A0-809730F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905-98B9-4D74-AA4D-DB2B306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44E56-086F-4ADF-9902-BD1E4F1033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