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85080"/>
        <c:axId val="61109746"/>
      </c:barChart>
      <c:catAx>
        <c:axId val="31685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09746"/>
        <c:crosses val="autoZero"/>
        <c:auto val="1"/>
        <c:lblAlgn val="ctr"/>
        <c:lblOffset val="100"/>
        <c:noMultiLvlLbl val="0"/>
      </c:catAx>
      <c:valAx>
        <c:axId val="61109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85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AF0-17AF-414F-B748-C1CAD2BC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584-0F65-4B1B-894C-B0010DAF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1E3-80F5-4BFC-BA7D-6C234D82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740-A680-4964-8939-340B5640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042-041F-4C57-9A02-1C2D22C8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A8E-E53C-4314-A28A-EEE0E518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291-67AA-435B-9497-03A39CBC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32C-6633-4B91-B860-E134B2E5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2DA-77BE-471D-AE7A-80945280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EFC-C594-491F-BB2D-A9CAEAE0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210-33F5-4704-B8A4-A8F6C0CD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016-188B-4AA9-8714-03C4F25F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B0A66-BDF6-4A33-A89F-20B435A7B4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