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52157"/>
        <c:axId val="46838065"/>
      </c:barChart>
      <c:catAx>
        <c:axId val="640521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38065"/>
        <c:crosses val="autoZero"/>
        <c:auto val="1"/>
        <c:lblAlgn val="ctr"/>
        <c:lblOffset val="100"/>
        <c:noMultiLvlLbl val="0"/>
      </c:catAx>
      <c:valAx>
        <c:axId val="46838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521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074-31E5-4013-973D-9E87D1B7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48D-AB7D-4435-9742-BD40E946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00F-9EEC-43D3-8679-35B6738C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E0BC-C65F-4A47-8D89-98899FAB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90A-7A72-464C-9047-10CE25CD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D7B-FF2F-461C-BB1E-C4A57297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ED5-51DE-412D-AE57-6F240F40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4137-BBA5-4950-BDE6-430620E0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7BA-CAB6-4980-9DA6-2722E473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9FE-5C3A-4D4A-B721-BB02765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B27-3A84-4F55-B56F-4ECA5E13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B66-A97A-4515-AACD-A2AA0D2E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DED67-9651-474D-BACF-ECD4F305F4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