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63000"/>
        <c:axId val="30285744"/>
      </c:barChart>
      <c:catAx>
        <c:axId val="65063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5744"/>
        <c:crosses val="autoZero"/>
        <c:auto val="1"/>
        <c:lblAlgn val="ctr"/>
        <c:lblOffset val="100"/>
        <c:noMultiLvlLbl val="0"/>
      </c:catAx>
      <c:valAx>
        <c:axId val="30285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63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0A8-A89E-4156-AD40-3D0E25CE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EF7-B46A-4523-9DCE-BD7917C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666-A850-4C3D-8206-3E8D8158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706-0299-41A8-AF9F-2E47B085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4A6-2048-4577-AEC7-721A3BE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92C-76A3-49DC-81EA-9C53A7F5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566-1F39-4918-9872-360F4A1E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3D2-6822-41A2-8E81-A003A6F8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FB5-D035-4CB3-828A-5F47CC9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BF2-6FFE-4454-B313-8ED808B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5CA-6A4A-4373-B7F1-25143C1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873-EEFF-48F2-807B-B1BEB85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7E235-E2CA-4A24-B25A-39C174F21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