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53969"/>
        <c:axId val="33176023"/>
      </c:barChart>
      <c:catAx>
        <c:axId val="198539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76023"/>
        <c:crosses val="autoZero"/>
        <c:auto val="1"/>
        <c:lblAlgn val="ctr"/>
        <c:lblOffset val="100"/>
        <c:noMultiLvlLbl val="0"/>
      </c:catAx>
      <c:valAx>
        <c:axId val="33176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539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A36A-A79E-4AB6-AD0D-4FCCC88C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264F-20FF-4B38-969B-61AE1C8F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4B1D-33C4-49EC-9B42-6418FDEC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0A9F-FC56-4DA2-B6E7-A5AFD049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96B-EA97-40FE-87DA-4E43DDFF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70DB-172E-4B7F-860C-A4EEB793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55E1-F0F8-4C3C-9B0D-CB547540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B84C-C12F-424F-B344-76CFE383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A20-F0E4-4788-9203-29CC1301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E30D-EE4C-4A7C-9E49-A08D9B90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D2DD-D44F-4F6F-A677-4AC13F37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D976-B612-4087-8AD7-88E140A9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D671D-ECCD-40E5-8E24-5E12D94912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