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876238"/>
        <c:axId val="6381367"/>
      </c:barChart>
      <c:catAx>
        <c:axId val="138762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81367"/>
        <c:crosses val="autoZero"/>
        <c:auto val="1"/>
        <c:lblAlgn val="ctr"/>
        <c:lblOffset val="100"/>
        <c:noMultiLvlLbl val="0"/>
      </c:catAx>
      <c:valAx>
        <c:axId val="63813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8762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37DC-2A9D-4DA0-9CBE-4298B4433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3033-C743-4802-97BA-AD72B5D5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9B90-F635-4586-9945-352BFF949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93C3-16C3-4692-9504-CEF7D7A49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8834-1979-4F7E-86FF-2D8FF84A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1A70-3DC4-460F-8A91-018071AA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3B82-0A26-4606-8427-796B8BF2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86F4-37A1-414C-85CC-AAEE6B59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8BC4-FEC3-4BAC-898F-D0029049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65C4-77E7-47EB-A2E5-8BDB1C9D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9203-9337-47D4-B961-94E73854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AA2B-929D-4AD9-942B-72F3BFB7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60E7A-576F-4130-976C-C83FDBEACD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